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4385-915D-4027-903A-4A5AA9385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toms are colored in CPK scheme a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-&gt; white     O --&gt; red     N --&gt; blue S --&gt; yellow    P --&gt; orange  H --&gt; cyan other --&gt; gr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C07-F324-4380-B204-F310F1EA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DAD-8EBE-420D-B45E-B861ACD0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AC6-13B9-4484-AFD8-945A56FF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584-5E99-4399-9629-E366BB3D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397-F062-4EC5-B689-119F8092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83F-A838-419D-867D-A239E304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D9E-1B9D-4443-8A3D-F529E3D6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6C1-5BA5-4A61-AF7B-EF468354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5B9-CF81-457A-A9A8-474448C6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42B-1973-4C29-9E1C-4E3CE236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F34-1A97-4CDF-AABC-E0413B69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D5A-21CF-4DC9-8C25-2A6F28AD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8239-6D7C-4EB2-AD47-EFD224BC6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oglobin and Hemoglo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45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K color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2400" y="1798560"/>
            <a:ext cx="528804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K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y, Pauling, Kult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375080" y="1081080"/>
            <a:ext cx="44830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1:23:12Z</dcterms:created>
  <dc:creator>Hong Qin</dc:creator>
  <dc:description/>
  <dc:language>en-US</dc:language>
  <cp:lastModifiedBy>Hong Qin</cp:lastModifiedBy>
  <dcterms:modified xsi:type="dcterms:W3CDTF">2007-09-19T19:59:22Z</dcterms:modified>
  <cp:revision>6</cp:revision>
  <dc:subject/>
  <dc:title>Slide 1</dc:title>
</cp:coreProperties>
</file>