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13E-8F6C-4CC6-95A6-8D2EF3B2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toms are colored in CPK scheme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-&gt; white     O --&gt; red     N --&gt; blue S --&gt; yellow    P --&gt; orange  H --&gt; cyan other --&gt; g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B67-178A-4B88-8CB9-EDF5C5B4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409-84BD-4BA6-8D14-9F1825E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D6E-E298-4F77-ADE9-FEAA1433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045-35CD-49AA-AAC1-CDCB8A1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742-1FE5-435F-B140-D002A2A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584-908C-4A15-B3A5-FE59C5A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A54-DE34-42A9-BACD-BD74C06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EFD-0B56-43DA-8D5D-B2DA979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35A-1CC2-47DB-B016-B5FE2DB3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AB6-BD70-44C8-B9F5-F22A35E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608-BBEE-47A3-BB30-3055077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643-7674-431A-AFDC-8523DFE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4AC-9A9E-4611-87B2-6C3288A8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oglobin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45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K colo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2400" y="1798560"/>
            <a:ext cx="528804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y, Pauling, Kult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75080" y="1081080"/>
            <a:ext cx="4483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1:23:12Z</dcterms:created>
  <dc:creator>Hong Qin</dc:creator>
  <dc:description/>
  <dc:language>en-US</dc:language>
  <cp:lastModifiedBy>Hong Qin</cp:lastModifiedBy>
  <dcterms:modified xsi:type="dcterms:W3CDTF">2007-09-19T19:59:22Z</dcterms:modified>
  <cp:revision>6</cp:revision>
  <dc:subject/>
  <dc:title>Slide 1</dc:title>
</cp:coreProperties>
</file>