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move the slide</a:t>
            </a:r>
            <a:endParaRPr b="1" lang="en-US" sz="6600" spc="-1" strike="noStrike">
              <a:solidFill>
                <a:srgbClr val="990000"/>
              </a:solidFill>
              <a:latin typeface="Arial Narrow"/>
            </a:endParaRPr>
          </a:p>
        </p:txBody>
      </p:sp>
      <p:sp>
        <p:nvSpPr>
          <p:cNvPr id="8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C457-CC3C-45AF-9C10-D4DF851CDEC9}"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eta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action entre le photon et le 11-cis-rétinal entraine son passage en tout-trans-rétinal - pas complémentarité de forme, déta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Changement de forme, donc changement de fonction de l ’ops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urant d ’obscuri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l ’obscurité, passage d ’ions Na+, Ca2+ du milieu extérieur par canaux d ’ions - GM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a:t>
            </a:r>
            <a:r>
              <a:rPr b="0" lang="fr-FR" sz="1200" spc="-1" strike="noStrike" u="sng">
                <a:solidFill>
                  <a:srgbClr val="000000"/>
                </a:solidFill>
                <a:uFillTx/>
                <a:latin typeface="Times New Roman"/>
              </a:rPr>
              <a:t>courant électrique</a:t>
            </a:r>
            <a:r>
              <a:rPr b="0" lang="fr-FR" sz="1200" spc="-1" strike="noStrike">
                <a:solidFill>
                  <a:srgbClr val="000000"/>
                </a:solidFill>
                <a:latin typeface="Times New Roman"/>
              </a:rPr>
              <a:t>: dépolarisation à potentiel transmembranaire de -40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du cône - trans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odopsine a changé de f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eint transducine, qui active phosphodiest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hydrolysation GMP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fermeture canaux d’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diff. potentiel transmembranaire s’accroit - 80 mV au pl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message nerveux (potentiel de récep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rendre comment le message nerveux---&gt; cerveau, il est imperatif de comprendre comment il est transmis d’un neurone a l’aut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ant ce modele, le message nerveux est transmis dans un premier temps des cones aux bipolaires, puis dans un second temps des bipolaires aux gangl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anglionnaires: axone (ensemble = nerf op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ouvoir creer des signaux capables d’atteindre cerveau sans perte d’info, il faut que des potentiels d’action soient generes au niveau de ces fibres optiques. Ceux ci se propagent sans attenuation, de maniere autonome, tout au long de la fibre de l’axone, avant d’atteindre le cer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hénomène naturel - mais comment voit-on la cou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cher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ciens : théorie émission de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ewton : travaux spect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omas Young : « Théorie de la vision trichromatique » 18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blémat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mment est constitué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Quels sont les mécanis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 : L ’oeil : expliquer anatomie et « acteurs » avant foncti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I : la perception des couleurs : notre sujet : lumiere, mecanismes de photoreception, et generation msg nerveu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clérotique: protège, blanc de l’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née: prolongement de la sclérotique, transparent, lentille principa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oroïde: tissu nourric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ps ciliaire: prolongement de la choroïde, modifie la forme du cristalli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e: tissu neur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utres milieux transparent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umeur aqueuse et corps vitre: composition et role--&gt; rayon lumineu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ristallin: lentille de l’oeil, accomodation</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 milieux transparents : au centre, facilitant acheminememnt message lumineux vers rét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Fond de l’oeil, tissu neuronal, lieu de traduction de la lumière en signaux nerveu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lusieurs couches, mais 3 majeu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cellules photosensibles - paradox arrivée lumiè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Bâtonnets - 95% - lumiere/obscurit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ônes - 5% - couleu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granuleuse in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ellules bipolaires - transmission photorécepteurs / ganglionnair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orizontales et Amacrines : modulation du mess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ganglionnaires : étage de sortie - 1 million de ganglionnaires - axones forment nerf optiq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6 millions, engouffrés dans la rétine, role fondamen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 reliees par un cil connecteur: schém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intern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yau, organit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artie la plus distale: transfert du message nerveux, neuromediateur. Transmission synaptique plus t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ex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mpilement lamelles (repliements membrane plasmiqu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 ’est a ce niveau: interaction lumiere, molecules impliquees: iodopsines, per plus tard.</a:t>
            </a:r>
            <a:endParaRPr b="0" lang="en-US" sz="1200" spc="-1" strike="noStrike">
              <a:solidFill>
                <a:srgbClr val="000000"/>
              </a:solidFill>
              <a:latin typeface="Times New Roman"/>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3 cones, sensibles aux 3 couleurs primai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acromolécule, dans segment externe, imbriquée dans membrane plasmiq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ASM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Opsine : protéine, 7 hélices alpha ; différentes versions, proportion créent spécificité côn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al, lié à opsine par liaison C=N. C19 H27 CHO, dérivé du rétinol / vit. 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Molécule qui interagit avec la lumiè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 ’est-ce que la lumiere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de EM - créée par présence particules chargées et déplacement - caractérisée par longueur d ’onde et fréqu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hotons : portent une certaine énergie et peuvent interagir avec la matiè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r>
              <a:rPr b="0" lang="fr-FR" sz="1200" spc="-1" strike="noStrike">
                <a:solidFill>
                  <a:srgbClr val="000000"/>
                </a:solidFill>
                <a:latin typeface="Times New Roman"/>
              </a:rPr>
              <a:t>..-&gt; photorecep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D5612-AA26-4B7C-B4EE-D0D249E5E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254C5-2791-442D-A454-FC2634D97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3730C-F86E-437A-AB1D-19EAD1C85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C36FD-125C-418E-9F50-53371915C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81D86-BB39-4912-A874-DC1B77167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846C5-D20E-4612-9658-475209D0C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89D34-8CD4-492B-8B0C-FBCE33579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9D668-F665-4D3E-ADD1-922069F81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0A36E-1053-4469-A635-D7DC86829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56D7C-7248-4043-BE05-6A241F706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4C381-EFF1-4F62-80A9-6A409F3ED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E8354-60B4-4C59-8DF7-884E347AC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C3389-E8C2-431F-917F-33A83FCAC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89A9B-9CFB-495D-8C34-FA7E8DEA2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FBDE7-1460-40C0-A332-2F4EE9142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20BCE-CC4C-46F7-813D-116A44BE3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D4164-D187-4809-990B-04D9F64E1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BFDE8-D312-438D-BB35-3075A0B29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95268-4AF9-4F45-9CCF-2E7802A5F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AF516-6ECD-46F8-A556-B3658B828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9463B-D487-477E-94DC-D1D6D5943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77876-1860-4BA7-BFF3-A588458C5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27BA-757D-406A-A593-B528FA863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D8FA7-CFB0-4848-9635-7F89B2E8D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Narrow"/>
              </a:rPr>
              <a:t>Click to edit the title text format</a:t>
            </a:r>
            <a:endParaRPr b="1" lang="en-US" sz="4800" spc="-1" strike="noStrike">
              <a:solidFill>
                <a:srgbClr val="99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9763-1BFD-4AE8-8BCD-61F32355448A}"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edit the title text format</a:t>
            </a:r>
            <a:endParaRPr b="1" lang="en-US" sz="6600" spc="-1" strike="noStrike">
              <a:solidFill>
                <a:srgbClr val="99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F552-EAE0-4938-87BF-32D478D6C307}"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3333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426960"/>
            <a:ext cx="8228160" cy="563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erception des couleurs par l’oeil</a:t>
            </a:r>
            <a:endParaRPr b="1" lang="en-US" sz="4400" spc="-1" strike="noStrike">
              <a:solidFill>
                <a:srgbClr val="990000"/>
              </a:solidFill>
              <a:latin typeface="Arial Narrow"/>
            </a:endParaRPr>
          </a:p>
        </p:txBody>
      </p:sp>
      <p:sp>
        <p:nvSpPr>
          <p:cNvPr id="93" name="PlaceHolder 2"/>
          <p:cNvSpPr>
            <a:spLocks noGrp="1"/>
          </p:cNvSpPr>
          <p:nvPr>
            <p:ph type="subTitle"/>
          </p:nvPr>
        </p:nvSpPr>
        <p:spPr>
          <a:xfrm>
            <a:off x="2743200" y="2361960"/>
            <a:ext cx="6019920" cy="3733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a:rPr>
              <a:t>Travaux Personnels Encadré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Thème: </a:t>
            </a:r>
            <a:r>
              <a:rPr b="1" i="1" lang="fr-FR" sz="2000" spc="-1" strike="noStrike">
                <a:solidFill>
                  <a:srgbClr val="010000"/>
                </a:solidFill>
                <a:latin typeface="Arial"/>
              </a:rPr>
              <a:t>Imag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Haïba Lekha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Per Einar Ellefsen</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1</a:t>
            </a:r>
            <a:r>
              <a:rPr b="1" lang="fr-FR" sz="1400" spc="-1" strike="noStrike" baseline="30000">
                <a:solidFill>
                  <a:srgbClr val="010000"/>
                </a:solidFill>
                <a:latin typeface="Arial"/>
              </a:rPr>
              <a:t>ère</a:t>
            </a:r>
            <a:r>
              <a:rPr b="1" lang="fr-FR" sz="1400" spc="-1" strike="noStrike">
                <a:solidFill>
                  <a:srgbClr val="010000"/>
                </a:solidFill>
                <a:latin typeface="Arial"/>
              </a:rPr>
              <a:t> S</a:t>
            </a:r>
            <a:r>
              <a:rPr b="1" lang="fr-FR" sz="1400" spc="-1" strike="noStrike" baseline="-16000">
                <a:solidFill>
                  <a:srgbClr val="010000"/>
                </a:solidFill>
                <a:latin typeface="Arial"/>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2 La photoréception</a:t>
            </a:r>
            <a:endParaRPr b="1" lang="en-US" sz="4400" spc="-1" strike="noStrike">
              <a:solidFill>
                <a:srgbClr val="990000"/>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isomérisation du 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hotoisomérisation</a:t>
            </a:r>
            <a:endParaRPr b="1" lang="en-US" sz="4400" spc="-1" strike="noStrike">
              <a:solidFill>
                <a:srgbClr val="990000"/>
              </a:solidFill>
              <a:latin typeface="Arial Narrow"/>
            </a:endParaRPr>
          </a:p>
        </p:txBody>
      </p:sp>
      <p:sp>
        <p:nvSpPr>
          <p:cNvPr id="12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 passage du 11-cis-rétinal en tout-trans-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hangement de fonction de l’opsi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transduction</a:t>
            </a:r>
            <a:endParaRPr b="1" lang="en-US" sz="4400" spc="-1" strike="noStrike">
              <a:solidFill>
                <a:srgbClr val="990000"/>
              </a:solidFill>
              <a:latin typeface="Arial Narrow"/>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urant d’obscurité</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yperpolar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3 Le message nerveux</a:t>
            </a:r>
            <a:endParaRPr b="1" lang="en-US" sz="4400" spc="-1" strike="noStrike">
              <a:solidFill>
                <a:srgbClr val="990000"/>
              </a:solidFill>
              <a:latin typeface="Arial Narrow"/>
            </a:endParaRPr>
          </a:p>
        </p:txBody>
      </p:sp>
      <p:sp>
        <p:nvSpPr>
          <p:cNvPr id="126" name="PlaceHolder 2"/>
          <p:cNvSpPr>
            <a:spLocks noGrp="1"/>
          </p:cNvSpPr>
          <p:nvPr>
            <p:ph/>
          </p:nvPr>
        </p:nvSpPr>
        <p:spPr>
          <a:xfrm>
            <a:off x="5943240" y="1981080"/>
            <a:ext cx="304812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mission synaptiq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heminement du message nerveux entre:</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ônes et Bipolaires</a:t>
            </a:r>
            <a:endParaRPr b="0" lang="en-US" sz="22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Bipolaires et Ganglionnaires</a:t>
            </a:r>
            <a:endParaRPr b="0" lang="en-US" sz="2200" spc="-1" strike="noStrike">
              <a:solidFill>
                <a:srgbClr val="000000"/>
              </a:solidFill>
              <a:latin typeface="Arial"/>
            </a:endParaRPr>
          </a:p>
        </p:txBody>
      </p:sp>
      <p:pic>
        <p:nvPicPr>
          <p:cNvPr id="127" name="westwood" descr=""/>
          <p:cNvPicPr/>
          <p:nvPr/>
        </p:nvPicPr>
        <p:blipFill>
          <a:blip r:embed="rId1"/>
          <a:stretch/>
        </p:blipFill>
        <p:spPr>
          <a:xfrm>
            <a:off x="76320" y="2133720"/>
            <a:ext cx="5867280" cy="33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2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1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Division du travail</a:t>
            </a:r>
            <a:endParaRPr b="1" lang="en-US" sz="4400" spc="-1" strike="noStrike">
              <a:solidFill>
                <a:srgbClr val="990000"/>
              </a:solidFill>
              <a:latin typeface="Arial Narrow"/>
            </a:endParaRPr>
          </a:p>
        </p:txBody>
      </p:sp>
      <p:pic>
        <p:nvPicPr>
          <p:cNvPr id="131" name="champs-recepteurs" descr=""/>
          <p:cNvPicPr/>
          <p:nvPr/>
        </p:nvPicPr>
        <p:blipFill>
          <a:blip r:embed="rId1"/>
          <a:stretch/>
        </p:blipFill>
        <p:spPr>
          <a:xfrm>
            <a:off x="2743200" y="1447920"/>
            <a:ext cx="4537080" cy="51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3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99"/>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http://www.bioinformatics.org/oeil-coul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Introduction</a:t>
            </a:r>
            <a:endParaRPr b="1" lang="en-US" sz="4400" spc="-1" strike="noStrike">
              <a:solidFill>
                <a:srgbClr val="990000"/>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hénomène naturel</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ment voit-on les couleurs?</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Beaucoup de recherches - Sujet import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Plan</a:t>
            </a:r>
            <a:endParaRPr b="1" lang="en-US" sz="4400" spc="-1" strike="noStrike">
              <a:solidFill>
                <a:srgbClr val="990000"/>
              </a:solidFill>
              <a:latin typeface="Arial Narrow"/>
            </a:endParaRPr>
          </a:p>
        </p:txBody>
      </p:sp>
      <p:sp>
        <p:nvSpPr>
          <p:cNvPr id="97" name="PlaceHolder 2"/>
          <p:cNvSpPr>
            <a:spLocks noGrp="1"/>
          </p:cNvSpPr>
          <p:nvPr>
            <p:ph/>
          </p:nvPr>
        </p:nvSpPr>
        <p:spPr>
          <a:xfrm>
            <a:off x="3047760" y="1981080"/>
            <a:ext cx="6095880" cy="411480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1.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1 L’anatomie de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2 La rét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3 Les cône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4 La iodops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2. La perception des couleur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1 La lumièr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2 La photoréception</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3 Le message nerve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284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1 L’anatomie de l’oeil</a:t>
            </a:r>
            <a:endParaRPr b="1" lang="en-US" sz="4400" spc="-1" strike="noStrike">
              <a:solidFill>
                <a:srgbClr val="990000"/>
              </a:solidFill>
              <a:latin typeface="Arial Narrow"/>
            </a:endParaRPr>
          </a:p>
        </p:txBody>
      </p:sp>
      <p:sp>
        <p:nvSpPr>
          <p:cNvPr id="99" name="PlaceHolder 2"/>
          <p:cNvSpPr>
            <a:spLocks noGrp="1"/>
          </p:cNvSpPr>
          <p:nvPr>
            <p:ph/>
          </p:nvPr>
        </p:nvSpPr>
        <p:spPr>
          <a:xfrm>
            <a:off x="5943240" y="1981080"/>
            <a:ext cx="2971800" cy="426744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membra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clérotiqu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oroïd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ti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milieux transparent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né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umeur aqueus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ristallin</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ps vitré</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eil" descr=""/>
          <p:cNvPicPr/>
          <p:nvPr/>
        </p:nvPicPr>
        <p:blipFill>
          <a:blip r:embed="rId1"/>
          <a:stretch/>
        </p:blipFill>
        <p:spPr>
          <a:xfrm>
            <a:off x="0" y="1295280"/>
            <a:ext cx="5943600" cy="533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943600" y="1752480"/>
            <a:ext cx="3200400" cy="51055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couch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ganglionnaire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granuleuse interne</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photorécepteur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oeil-retine" descr=""/>
          <p:cNvPicPr/>
          <p:nvPr/>
        </p:nvPicPr>
        <p:blipFill>
          <a:blip r:embed="rId1"/>
          <a:stretch/>
        </p:blipFill>
        <p:spPr>
          <a:xfrm>
            <a:off x="152280" y="152280"/>
            <a:ext cx="5046840" cy="6553440"/>
          </a:xfrm>
          <a:prstGeom prst="rect">
            <a:avLst/>
          </a:prstGeom>
          <a:ln w="0">
            <a:noFill/>
          </a:ln>
        </p:spPr>
      </p:pic>
      <p:sp>
        <p:nvSpPr>
          <p:cNvPr id="103" name=""/>
          <p:cNvSpPr/>
          <p:nvPr/>
        </p:nvSpPr>
        <p:spPr>
          <a:xfrm flipH="1">
            <a:off x="4038480" y="327672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038480" y="449568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4114800" y="6019920"/>
            <a:ext cx="228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32763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2 La rétine</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08" name="retine-cone" descr=""/>
          <p:cNvPicPr/>
          <p:nvPr/>
        </p:nvPicPr>
        <p:blipFill>
          <a:blip r:embed="rId1"/>
          <a:stretch/>
        </p:blipFill>
        <p:spPr>
          <a:xfrm>
            <a:off x="304920" y="0"/>
            <a:ext cx="4848120" cy="6858000"/>
          </a:xfrm>
          <a:prstGeom prst="rect">
            <a:avLst/>
          </a:prstGeom>
          <a:ln w="0">
            <a:noFill/>
          </a:ln>
        </p:spPr>
      </p:pic>
      <p:sp>
        <p:nvSpPr>
          <p:cNvPr id="109" name="PlaceHolder 2"/>
          <p:cNvSpPr>
            <a:spLocks noGrp="1"/>
          </p:cNvSpPr>
          <p:nvPr>
            <p:ph type="title"/>
          </p:nvPr>
        </p:nvSpPr>
        <p:spPr>
          <a:xfrm>
            <a:off x="29714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95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
        <p:nvSpPr>
          <p:cNvPr id="111" name="PlaceHolder 2"/>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12" name="Absorption" descr=""/>
          <p:cNvPicPr/>
          <p:nvPr/>
        </p:nvPicPr>
        <p:blipFill>
          <a:blip r:embed="rId1"/>
          <a:stretch/>
        </p:blipFill>
        <p:spPr>
          <a:xfrm>
            <a:off x="1066680" y="2057400"/>
            <a:ext cx="4572000" cy="351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4 La iodopsine</a:t>
            </a:r>
            <a:endParaRPr b="1" lang="en-US" sz="4400" spc="-1" strike="noStrike">
              <a:solidFill>
                <a:srgbClr val="990000"/>
              </a:solidFill>
              <a:latin typeface="Arial Narrow"/>
            </a:endParaRPr>
          </a:p>
        </p:txBody>
      </p:sp>
      <p:sp>
        <p:nvSpPr>
          <p:cNvPr id="114"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psine(s)</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tinal</a:t>
            </a:r>
            <a:endParaRPr b="0" lang="en-US" sz="2400" spc="-1" strike="noStrike">
              <a:solidFill>
                <a:srgbClr val="000000"/>
              </a:solidFill>
              <a:latin typeface="Arial"/>
            </a:endParaRPr>
          </a:p>
        </p:txBody>
      </p:sp>
      <p:pic>
        <p:nvPicPr>
          <p:cNvPr id="115" name="cone-iodopsine" descr=""/>
          <p:cNvPicPr/>
          <p:nvPr/>
        </p:nvPicPr>
        <p:blipFill>
          <a:blip r:embed="rId1"/>
          <a:stretch/>
        </p:blipFill>
        <p:spPr>
          <a:xfrm>
            <a:off x="4827600" y="152280"/>
            <a:ext cx="43164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1 La lumière</a:t>
            </a:r>
            <a:endParaRPr b="1" lang="en-US" sz="4400" spc="-1" strike="noStrike">
              <a:solidFill>
                <a:srgbClr val="990000"/>
              </a:solidFill>
              <a:latin typeface="Arial Narrow"/>
            </a:endParaRPr>
          </a:p>
        </p:txBody>
      </p:sp>
      <p:sp>
        <p:nvSpPr>
          <p:cNvPr id="117" name="PlaceHolder 2"/>
          <p:cNvSpPr>
            <a:spLocks noGrp="1"/>
          </p:cNvSpPr>
          <p:nvPr>
            <p:ph/>
          </p:nvPr>
        </p:nvSpPr>
        <p:spPr>
          <a:xfrm>
            <a:off x="2819160" y="1980720"/>
            <a:ext cx="6095880" cy="2971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ualité onde-corpusc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nde électromagnétiq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a:t>
            </a:r>
            <a:endParaRPr b="0" lang="en-US" sz="2400" spc="-1" strike="noStrike">
              <a:solidFill>
                <a:srgbClr val="000000"/>
              </a:solidFill>
              <a:latin typeface="Arial"/>
            </a:endParaRPr>
          </a:p>
        </p:txBody>
      </p:sp>
      <p:pic>
        <p:nvPicPr>
          <p:cNvPr id="118" name="spectre" descr=""/>
          <p:cNvPicPr/>
          <p:nvPr/>
        </p:nvPicPr>
        <p:blipFill>
          <a:blip r:embed="rId1"/>
          <a:stretch/>
        </p:blipFill>
        <p:spPr>
          <a:xfrm>
            <a:off x="0" y="4876920"/>
            <a:ext cx="9144000" cy="150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0T12:51:26Z</dcterms:created>
  <dc:creator>Per Einar</dc:creator>
  <dc:description/>
  <dc:language>en-US</dc:language>
  <cp:lastModifiedBy>Per Einar</cp:lastModifiedBy>
  <cp:lastPrinted>2002-02-05T19:44:39Z</cp:lastPrinted>
  <dcterms:modified xsi:type="dcterms:W3CDTF">2002-02-05T21:08:47Z</dcterms:modified>
  <cp:revision>17</cp:revision>
  <dc:subject/>
  <dc:title>La perception des couleurs par l’oe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bioinformatics.org/oeil-couleur/</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pereinar\</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